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6A5-42A1-4CFA-A2A2-3E92E309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720-C047-4090-B1AB-FEB0EE4B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0D3-079F-455B-B3F5-25C08B39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B3C-5884-410E-87A4-49A74C6C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89789-CCA9-4AD2-8030-D936C467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45E72-4D92-4DF4-90FD-EB170B2D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91C61-CFE4-451E-B73B-8A322E44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61FE9-E82F-4CDA-A030-EA2C6A2F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03B9A-C395-4A9A-BE8F-44DFA89C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D963D-ADE5-446F-A1EB-823DB8A6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9644B-32BC-422E-A968-7ABE54A6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2FD-C6A1-4BFD-AD4B-8C0A1010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89657-8CD9-4E48-931E-DB34A9B6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759B0-4F6B-4670-989F-49019756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A8395-F3AA-4E69-810B-8DEBED70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B9F61-E9D4-4600-856B-1AF175FB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92303-7A04-4C02-A985-ED55AA2E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8F7-51B1-42D1-920A-E68AD6F5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B5C-9B27-4C80-8F21-28A8B676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32B-1106-4E83-9A43-E3A21B0E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268-2734-43BF-BCA1-42CB9BF6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A13-CE5B-460B-8046-7D91401D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4E1-F9C4-4EDE-A43E-CE6EA394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FD1-5722-4222-A2F1-9554E78E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8BDA-4EC7-4EC8-8F55-DB94BE5E8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566D-CE72-4E5A-9969-DC3AD4B21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maps.google.com/maps?hl=en&amp;q=hawaii+map&amp;um=1&amp;ie=UTF-8&amp;split=0&amp;gl=us&amp;sa=X&amp;oi=geocode_result&amp;resnum=1&amp;ct=image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Hawaii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eterra Wal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Beautiful Beache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3276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Beach to the right is one of the most beautiful beaches in Honolulu Hawaii. Its far from traffic and is pet frien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reat Location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3429000"/>
            <a:ext cx="4572000" cy="31240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af"/>
                </a:solidFill>
                <a:latin typeface="Bradley Hand ITC"/>
              </a:rPr>
              <a:t>This is an overview map of Hawa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af"/>
                </a:solidFill>
                <a:latin typeface="Bradley Hand ITC"/>
              </a:rPr>
              <a:t>Mapped, Hawaii may appear to be small, but what the beaches have to offer is plenty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2209680"/>
            <a:ext cx="373392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Activities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ting on side wal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ke r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ut on the northern side of 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Weather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er eve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d wi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st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7659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7659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7659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7659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7659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7659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3" dur="1" fill="hold"/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7659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01:46Z</dcterms:created>
  <dc:creator>762703</dc:creator>
  <dc:description/>
  <dc:language>en-US</dc:language>
  <cp:lastModifiedBy>762703</cp:lastModifiedBy>
  <dcterms:modified xsi:type="dcterms:W3CDTF">2009-01-23T17:00:39Z</dcterms:modified>
  <cp:revision>3</cp:revision>
  <dc:subject/>
  <dc:title>Hawaii</dc:title>
</cp:coreProperties>
</file>